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1939-6D8D-4054-8488-DFDCCC88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0E4A-9471-4AC1-8C45-48F73560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510-341D-4A8E-9DAA-D6B3AA06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D3B-53D9-4DE5-8808-0DDF44DB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8545-D433-4F9E-8944-555A423F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C92A-49C3-4253-B45E-C630F46C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F183-DB13-4840-88C0-C7F116EF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F5E1-03F7-47A6-945E-A9391F7D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4554-63CF-4736-B939-332BDE5B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5404-5C1C-4BEC-8099-7130F302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2150-3AD5-4665-95CB-B5EB571B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ED18-E742-443E-B2C8-D5BE5952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B9D7-B717-4B88-A809-9B7180FC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4B69-A1B1-48E2-B1D7-497AC18F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8E01-E4F8-4F25-97CB-B2A93468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4861-6341-4A27-9260-BFFCA141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FDC1-6AD7-4C72-BD7D-EC8ACF96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94C-12A0-40FC-B306-26B3CC97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61D-22E9-452B-A9BA-89CAE872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C686-A0BC-4239-A28F-F9B6D973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73D-EAC2-4A84-A149-6AA872D0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0B4-E68D-4D07-A00F-473DB237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A5A9-8C2B-4448-9240-8DB06E0F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E4D-C1C7-4FCD-AF5A-548D034A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97F5-1A49-4EA4-8B60-711AF7EBC576}" type="slidenum"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DDA8-F13E-49EC-A6CD-6BE3D302FB3E}" type="slidenum"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895480" y="685800"/>
            <a:ext cx="2951280" cy="4794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90720" y="3733920"/>
            <a:ext cx="6546600" cy="1706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20143800">
            <a:off x="583920" y="860040"/>
            <a:ext cx="30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Times New Roman"/>
              </a:rPr>
              <a:t>Kuvien järjesty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62120" y="5486400"/>
            <a:ext cx="7619760" cy="76320"/>
          </a:xfrm>
          <a:prstGeom prst="line">
            <a:avLst/>
          </a:prstGeom>
          <a:ln cap="sq" w="7632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seli Aherta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E2113-B5B0-4D7A-BD50-3BB0307C9A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10:51:17Z</dcterms:created>
  <dc:creator>atk</dc:creator>
  <dc:description/>
  <dc:language>en-US</dc:language>
  <cp:lastModifiedBy>Kurssi</cp:lastModifiedBy>
  <dcterms:modified xsi:type="dcterms:W3CDTF">2003-02-17T11:21:59Z</dcterms:modified>
  <cp:revision>8</cp:revision>
  <dc:subject/>
  <dc:title>Vauhdin hurmaa</dc:title>
</cp:coreProperties>
</file>